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86F-1F98-465B-99F3-39EE8CB6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376-91DA-4248-A5B9-92A333F1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C77-E6F2-431B-A7C9-8A8E5709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260-B4C0-4971-8427-9D70E0CF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EF3-78FE-4EC7-951E-940D0042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05C-A41C-43BA-8E7F-17C087A4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7B5-D5C4-4025-823C-9E01A96A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E62-DA5F-4803-9EA3-A1FDF9FA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C90-18D1-4477-9B96-1EFFF1F8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64F-F7DD-4226-9C6D-8AE835D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02D-8CC7-4F16-8110-3E35FE31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213-DB81-4F10-8795-354F0F1F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C55-D159-42CA-8823-C46F3B790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4924715GRMuZrvGAj_ph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3200400" cy="114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ودتي إلى حُضنِكَ الدافىء عَودةَ المُشرّدِ نحو الوط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ّي يا سفينتي ويا مرفأي فيكَ السكينَةُ فيكَ السَّكن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488241REkwlfkALI_ph" descr=""/>
          <p:cNvPicPr/>
          <p:nvPr/>
        </p:nvPicPr>
        <p:blipFill>
          <a:blip r:embed="rId1"/>
          <a:stretch/>
        </p:blipFill>
        <p:spPr>
          <a:xfrm>
            <a:off x="0" y="-214200"/>
            <a:ext cx="9677520" cy="771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ّي فقير فقير إليكْ إنّي غنيّ غنيّ ب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شوَتي نعيمي في راحَتَيك لأني شريكٌ بكل ما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12:48Z</dcterms:created>
  <dc:creator>SUZANNE.MD</dc:creator>
  <dc:description/>
  <dc:language>en-US</dc:language>
  <cp:lastModifiedBy>USER</cp:lastModifiedBy>
  <dcterms:modified xsi:type="dcterms:W3CDTF">2003-03-03T07:35:21Z</dcterms:modified>
  <cp:revision>2</cp:revision>
  <dc:subject/>
  <dc:title>PowerPoint Presentation</dc:title>
</cp:coreProperties>
</file>